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7AAB-0946-4163-9996-4830CA354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8CD3-BC6B-4A16-8BCE-A8F8EBF6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5ABC-B6A7-4C51-A971-1D7F441B1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F15E-5D06-42F9-9BF2-77137B829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3F74-23EF-45CA-A09A-D09A896F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9FAF-F999-4290-8776-88B4742A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77D1-FDDE-41C1-AC48-2BD2D53B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1C94-44FB-4348-8A82-A12A6382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C662-83EA-4B54-AFC2-FE185F8D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0EE8-0F68-47DF-ACF0-16A0F5F5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813B-A670-4D03-8743-D4F792AB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53A8-0CAC-4263-B470-F1B803FC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2ACB-A420-4913-B907-60E95135C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30240"/>
            <a:ext cx="8077320" cy="66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549360"/>
            <a:ext cx="7543800" cy="57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628560"/>
            <a:ext cx="754380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95480" y="0"/>
            <a:ext cx="5153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488880"/>
            <a:ext cx="739116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0T14:20:40Z</dcterms:created>
  <dc:creator>Patrick J. Mooney</dc:creator>
  <dc:description/>
  <dc:language>en-US</dc:language>
  <cp:lastModifiedBy>Patrick J. Mooney</cp:lastModifiedBy>
  <dcterms:modified xsi:type="dcterms:W3CDTF">2011-08-30T14:27:08Z</dcterms:modified>
  <cp:revision>3</cp:revision>
  <dc:subject/>
  <dc:title>Slide 1</dc:title>
</cp:coreProperties>
</file>